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785-D232-48AA-A934-A6670FBB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10A-8C9F-47BD-9EC9-DEFF49DA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4CC-DF76-43D4-BABE-4E60B8EB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D11-6142-49E0-910E-FD9A5A52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F1C1-0F95-4173-9A00-EBA5EC32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3329-88F0-4257-B590-8891D891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60A9-BAB5-4CB5-ABA7-51E2B164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2EAB-C2E6-43EB-BA9C-BB69A2FF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3D2A-E345-4703-BC52-0EB4FBC7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D1B3-89D2-493F-AD7C-576A8D4A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916E-2BD8-44C0-B0D4-A4DD37E9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F50-BD0E-4B0C-B41B-CB305E4B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90BF-421B-4BC1-8049-2EC250C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680E-D104-475A-A759-168C7F53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F33F-3743-4E73-8EC9-20891F45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1F25-0089-4FA7-9A90-CB3F01D4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C070-5856-4B22-ACA7-6632B57E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AC6-1B2B-424B-9A4E-4BC936B7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7B7-9AD9-410A-BF2C-8F3E2108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3DF-536D-4638-B466-4637F482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937-801E-4735-8E1B-C404F078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074-AB89-483C-B009-8EB68E6D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21C-1B80-4547-B705-83B525E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6DE-C5DD-40DB-8983-C3E25E0F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FE0B3FA-4646-4762-904A-1392928CB24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B4B376D-3C20-4A5E-8E32-2B961400484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Superscalar Process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s have many advanta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uses canonical pipeline stages for superscalar processor gener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of FabScalar generated cores remains to be further investiga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F82D-C9E6-499D-856D-EDDC294314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of FabScalar generated co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we can d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A3CE-6867-4E87-BC5C-08E8B4ED89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eterogeneous Multi-Core Process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0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ains multiple, differently-designed superscalar core types that can streamline the execution of diverse progr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re types differ from each other and target at different appli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uperscalar process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tilizes instruction level parallelism. Executes more than one instruction during a clock-cyc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atch instructions to redundant functional units such as ALU, multiplier, bit shifter, etc on the process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chilles’ heel” of heterogeneous multi-core processor de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sign and verification effort is multiplied by the number of different core types, which limits the amount of architectural diversity that can be practically implemen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5452-684F-4829-9D4E-385DB91E47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oolset developed to automatically compose RTL designs of arbitrary cores within a canonical superscalar templat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ames superscalar processors in a canonical template which defines canonical pipeline stages and interfaces among th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anonical Pipeline Stage Library (CPSL) provides many implementations of each canonical pipeline stage that differs in their superscalar dimens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RTL generation tool uses the template and CPSL to automatically generate an overall core of desired configur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1894-095F-4358-82B7-9612DC8698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nonical Pipeline Sta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717000"/>
            <a:ext cx="822924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pipeline stages and interfaces are the same for all the superscalar processo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ch pipeline stage is composed from the Canonical Pipeline Stage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95640" y="1556640"/>
            <a:ext cx="8208720" cy="1809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0F89-36CC-4AE4-89B8-1E1EB500D1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nonical Pipeline Stage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284120" y="1219320"/>
            <a:ext cx="6575760" cy="493668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D757-B131-42F2-83A6-18647D21A4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Mem: A Multiported RAM and CAM Compil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0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timates read/write delays, read/write energies, and areas of user-specified multi-ported RAMs/CAM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nerates layouts of desired RAMs/CAM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imit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is tied to a specific technology (FreePDK45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largest supported RAM is 512 word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can generate RAMs for only 2XR-XW and XR-XW configurations. The maximum number of read ports is 16. The maximum number of write ports is 8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degree of column muxing in RAMs is limited to 1, 2, and 4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largest supported CAM is 256 word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can generate CAMs for only XR-XW configurations. The maximum number of read ports is 8. The maximum number of write ports is 8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B97E-C2C4-4B12-945D-EE2AF6752F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by FabScalar Grou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9704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FabMem to generate custom designs of critical memory structur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rse-grained floorplann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ttle consideration of power, area and performance issu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FreePDK45, a 45nm based standard cell library, for logic synthesis and place-and-rout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500000" y="1556640"/>
            <a:ext cx="4409640" cy="4352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F285-B029-4FB4-AED9-664A43CD47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Things We Can 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orplan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ta path de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design – comparison between FabMem and other memory compil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dence vs Synops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wer plan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63D1-27FA-4604-A01C-0C4D09468A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682</TotalTime>
  <Application>LibreOffice/7.4.7.2$Linux_X86_64 LibreOffice_project/40$Build-2</Application>
  <AppVersion>15.0000</AppVersion>
  <Words>493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2-23T15:16:29Z</dcterms:modified>
  <cp:revision>1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